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09AB7-CD07-456D-A7C2-BB9FBFEEE5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9B844-B71B-430D-8FE6-5A076A77D70D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55F97-EAEE-47EA-B2C6-656E00C0F6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176480" y="45604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0468C-5624-40CF-8C49-E9446ACD29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0932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36392-281E-455B-87B8-1E825BB560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76092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34536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17648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76092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34536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90702-CBEC-419B-BB0D-71104AEC74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187280" y="1983960"/>
            <a:ext cx="655344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96570-285C-4AE9-B9B9-A46F4277E3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932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176480" y="45604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0932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76092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34536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17648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76092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34536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B5CD9-77E2-4DE2-907B-2047AD02ED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6DF33-4EAC-4F15-B232-0F7CB73A4A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9FE7F-ADFA-427D-B106-23911AD106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187280" y="1983960"/>
            <a:ext cx="655344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39CA5-860A-46DA-BE3A-C846133AD0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C4E1B-1D28-492B-A75C-A030FA78F3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932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9B358-DB04-4C00-BF9B-84A671FD40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51DB0-2C9B-4883-A9C1-E65E088FFF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87280" y="198396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5516640"/>
            <a:ext cx="9144000" cy="1341360"/>
          </a:xfrm>
          <a:prstGeom prst="rect">
            <a:avLst/>
          </a:prstGeom>
          <a:gradFill rotWithShape="0">
            <a:gsLst>
              <a:gs pos="0">
                <a:srgbClr val="765e2f">
                  <a:alpha val="0"/>
                </a:srgbClr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A0636-68F8-4B67-B6D8-193603786FC9}" type="slidenum">
              <a:rPr b="0" lang="en-US" sz="2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r>
              <a:rPr b="0" lang="sr-Latn-CS" sz="2400" spc="-1" strike="noStrike">
                <a:solidFill>
                  <a:srgbClr val="4d4d4d"/>
                </a:solidFill>
                <a:latin typeface="Times New Roman"/>
              </a:rPr>
              <a:t> od 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10"/>
          <p:cNvSpPr/>
          <p:nvPr/>
        </p:nvSpPr>
        <p:spPr>
          <a:xfrm>
            <a:off x="0" y="2664000"/>
            <a:ext cx="6227640" cy="100800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87280" y="198396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-36360" y="2708280"/>
            <a:ext cx="6408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UPRAVLJANJE PROJEKTIMA</a:t>
            </a:r>
            <a:endParaRPr b="0" lang="en-US" sz="3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6227640" y="5734080"/>
            <a:ext cx="2737080" cy="33804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179280" y="645336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februar 2007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5286240" y="4611600"/>
            <a:ext cx="3237120" cy="223488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ww.grfic.com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o je samo primer, nikako ne predajte ovo kao vasu prezentaciju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4000"/>
                            </p:stCondLst>
                            <p:childTnLst>
                              <p:par>
                                <p:cTn id="11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3DAEA-8719-4550-9A8F-42440DC82449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87280" y="198396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99"/>
                </a:solidFill>
                <a:latin typeface="Arial"/>
              </a:rPr>
              <a:t>Project Manager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Stručnjak koji upravlja projektima naziva se </a:t>
            </a:r>
            <a:r>
              <a:rPr b="1" lang="sr-Latn-CS" sz="2800" spc="-1" strike="noStrike" u="sng">
                <a:solidFill>
                  <a:srgbClr val="4d4d4d"/>
                </a:solidFill>
                <a:uFillTx/>
                <a:latin typeface="Arial"/>
              </a:rPr>
              <a:t>Project Manager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Od njega se očekuje da pored poznavanja tehnologije izvođenja građevinskih radova, razvije i primenjuje sopstvenu tehnologiju upravljanja gradilišta.</a:t>
            </a: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B664C-827E-457C-9B04-8FAEC126A875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47640" y="184428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99"/>
                </a:solidFill>
                <a:latin typeface="Arial"/>
              </a:rPr>
              <a:t>Zaključak</a:t>
            </a:r>
            <a:r>
              <a:rPr b="0" lang="sr-Latn-CS" sz="3200" spc="-1" strike="noStrike">
                <a:solidFill>
                  <a:srgbClr val="003399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Upravljanje projektima je bitno jer :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4d4d4d"/>
                </a:solidFill>
                <a:latin typeface="Arial"/>
              </a:rPr>
              <a:t>Smanjuje troškove građenja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4d4d4d"/>
                </a:solidFill>
                <a:latin typeface="Arial"/>
              </a:rPr>
              <a:t>Smanjuje period izgradnje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4d4d4d"/>
                </a:solidFill>
                <a:latin typeface="Arial"/>
              </a:rPr>
              <a:t>Povećava kvalitet gradnje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4d4d4d"/>
                </a:solidFill>
                <a:latin typeface="Arial"/>
              </a:rPr>
              <a:t>Povećava profit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Zbog toga je upravljanje projektima jedan bitan deo u oblasti građevinarstva.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-360" y="2420640"/>
            <a:ext cx="615636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ffff"/>
                </a:solidFill>
                <a:latin typeface="Tahoma"/>
              </a:rPr>
              <a:t>HVALA NA PAŽNJI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slow">
    <p:cover dir="d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1673E-84F8-40A4-A525-200BF53BCED5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47640" y="198396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99"/>
                </a:solidFill>
                <a:latin typeface="Arial"/>
              </a:rPr>
              <a:t>Pregled Izlaganja: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76480" y="2276280"/>
            <a:ext cx="7643520" cy="39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Šta je Projekat?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Problemi u realizaciji projekta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Upravljanje projektom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Princip upravljanja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Projekt Manadžer?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C44DB-053F-4D9D-AA11-FB536D64C62A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47640" y="184428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99"/>
                </a:solidFill>
                <a:latin typeface="Arial"/>
              </a:rPr>
              <a:t>Šta je Projekat?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Projekat koji za cilj ima izgradnju i opremanje građevinskog objekta naziva se </a:t>
            </a:r>
            <a:r>
              <a:rPr b="1" lang="sr-Latn-CS" sz="2800" spc="-1" strike="noStrike" u="sng">
                <a:solidFill>
                  <a:srgbClr val="292929"/>
                </a:solidFill>
                <a:uFillTx/>
                <a:latin typeface="Arial"/>
              </a:rPr>
              <a:t>građevinski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ili češće </a:t>
            </a:r>
            <a:r>
              <a:rPr b="1" lang="sr-Latn-CS" sz="2800" spc="-1" strike="noStrike" u="sng">
                <a:solidFill>
                  <a:srgbClr val="292929"/>
                </a:solidFill>
                <a:uFillTx/>
                <a:latin typeface="Arial"/>
              </a:rPr>
              <a:t>investicioni projekat</a:t>
            </a: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Zavisno od veličine objekta, projekti mogu biti manje ili više obimni ali bez obzira na to projekti su kompleksni tehničko-tehnološki, organizacioni, finanskijski i pravni procesi.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CF154-7691-485C-88AC-16CE9B9208D1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71280" y="1773000"/>
            <a:ext cx="655308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99"/>
                </a:solidFill>
                <a:latin typeface="Arial"/>
              </a:rPr>
              <a:t>Problemi u realizaciji projekta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86920" y="2349360"/>
            <a:ext cx="764388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Vremenski uslovi,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Inflacije, cene materijala i potrebština,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Kratki rokovi građenja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Nesuglasice oko ugovora  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1187280" y="4581360"/>
            <a:ext cx="756144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Zbog ovih a i mnogih drugih problema postoji  potreba za sistemom upravljanja projekta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43701-5F5C-49E8-8984-217AFC7728B2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87280" y="198396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99"/>
                </a:solidFill>
                <a:latin typeface="Arial"/>
              </a:rPr>
              <a:t>Upravljanje Projektom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1403280" y="2708280"/>
            <a:ext cx="748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Upravljanje projektom je slo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žen i odgovoran posao organizacije građevinskog projekta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Pomoću sistema upravljanja, projekat se realizuje na ekonomičan, kvalitetan, brz i efikasan način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Upravljanje projektom je bitan faktor svakog građenja koji na “pametan” način olakšava proces realizacije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4F3B9-4C9E-4AE6-BC28-1F4184CFE723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87280" y="198396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99"/>
                </a:solidFill>
                <a:latin typeface="Arial"/>
              </a:rPr>
              <a:t>Upravljanje Projektom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1403280" y="2708280"/>
            <a:ext cx="748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Svaki projekat mora da ima upravaljački podsistem koji definiše: plan, ciljeve, politiku, strategiju, organizaciju, donosi odluke..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 u="sng">
                <a:solidFill>
                  <a:srgbClr val="4d4d4d"/>
                </a:solidFill>
                <a:uFillTx/>
                <a:latin typeface="Arial"/>
              </a:rPr>
              <a:t>Planom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se definiše skup određenih aktivnosti, njihovih međuzavisnosti, trajanja istih i potrebnih resursa i sredstava za njihovo izvršenje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sr-Latn-CS" sz="2800" spc="-1" strike="noStrike" u="sng">
                <a:solidFill>
                  <a:srgbClr val="4d4d4d"/>
                </a:solidFill>
                <a:uFillTx/>
                <a:latin typeface="Arial"/>
              </a:rPr>
              <a:t>Cilj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definiše stanje posistema koje se želi postići (realizacija projekta)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5BDE5-6E84-473F-B039-70271CA64D81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1187280" y="2421000"/>
            <a:ext cx="7705800" cy="43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Svaki upravljački podsistem mora da upravlja: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Obimom projekta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Vremenom (“Vreme je novac”)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Troškovima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Kvalitetom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Nabavkom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Rizikom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..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87280" y="1773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99"/>
                </a:solidFill>
                <a:latin typeface="Arial"/>
              </a:rPr>
              <a:t>Upravljanje Projektom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3F942-3C75-4E6E-916F-A1053BC94D16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Upravljanje projektima je veoma složen i komplikovan posao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Treba imati u vidu da obaveze svakog pojedinca koji učestvuje u projektu moraju biti jasno definisane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Npr. gradilište sa par stotina radnika i velikim obimom posla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1187280" y="1773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99"/>
                </a:solidFill>
                <a:latin typeface="Arial"/>
              </a:rPr>
              <a:t>Upravljanje Projektom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9A3A5-B100-4053-B596-FE63985D0C4D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31640" y="1915920"/>
            <a:ext cx="655308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99"/>
                </a:solidFill>
                <a:latin typeface="Arial"/>
              </a:rPr>
              <a:t>Princip Upravljanja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71280" y="2492280"/>
            <a:ext cx="784836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4d4d4d"/>
                </a:solidFill>
                <a:latin typeface="Arial"/>
              </a:rPr>
              <a:t>U realizaciji svakog projekta dolazi do komplikacija koje utiču na tok realizacije. Zato svaki projekat mora da ima sistem kontrole koji se sastoji od:</a:t>
            </a:r>
            <a:endParaRPr b="0" lang="en-US" sz="26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4d4d4d"/>
                </a:solidFill>
                <a:latin typeface="Arial"/>
              </a:rPr>
              <a:t>Procene (planiranja) onog što će se dogoditi,</a:t>
            </a:r>
            <a:endParaRPr b="0" lang="en-US" sz="26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4d4d4d"/>
                </a:solidFill>
                <a:latin typeface="Arial"/>
              </a:rPr>
              <a:t>Uvida u stvarno stanje radova (monitoring),</a:t>
            </a:r>
            <a:endParaRPr b="0" lang="en-US" sz="26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4d4d4d"/>
                </a:solidFill>
                <a:latin typeface="Arial"/>
              </a:rPr>
              <a:t>Poređenje planiranog i ostvarenog ,</a:t>
            </a:r>
            <a:endParaRPr b="0" lang="en-US" sz="26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4d4d4d"/>
                </a:solidFill>
                <a:latin typeface="Arial"/>
              </a:rPr>
              <a:t>Preduzimanje akcije za minimizaciju odstupanja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2T22:18:25Z</dcterms:created>
  <dc:creator>Jovan Cvetanovic</dc:creator>
  <dc:description/>
  <dc:language>en-US</dc:language>
  <cp:lastModifiedBy>HOME</cp:lastModifiedBy>
  <dcterms:modified xsi:type="dcterms:W3CDTF">2008-02-02T11:02:31Z</dcterms:modified>
  <cp:revision>15</cp:revision>
  <dc:subject>upravaljanje projektima</dc:subject>
  <dc:title>UPRAVLJANJE PROJEKTIM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Owner">
    <vt:lpwstr>Jovan Cvetanovic</vt:lpwstr>
  </property>
</Properties>
</file>